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1FCDE-9C9B-44BE-B30A-99CEA02273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2FF54-A13F-494A-83E4-60396CBC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A21F6-ECF6-455C-90E4-1DE025F41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9283B-B885-45B9-820A-B8AD068B4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753F0-3513-4D5D-9DC9-18E7A4973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2F15F-6353-430F-B28B-4F0CE604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A8BE2-9824-4187-A56E-88920DC00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0E3DC-B51F-4A37-AE26-15D522AB4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56251-C39C-4BF7-8D51-058522C2A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F5E8-DB37-40EE-8BB9-C07F40E90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A852-A3D4-4A5A-A678-D6110ED40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20DE0-4251-4396-B8FF-BB582A784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76D8-03CD-4407-843D-4734D92772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609480" y="2438280"/>
            <a:ext cx="80010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 top speed of 205 mph+ and it can reach 0-60 in 3.9 secon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ith the 2010 Super Sport Version reaching a top speed of 267 mp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7 years ago, it has an unbelievable  top speed of 240 mph and reaching 60 mph in 3.2 seconds. Even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Leif Erickson</cp:lastModifiedBy>
  <dcterms:modified xsi:type="dcterms:W3CDTF">2011-08-02T22:51:23Z</dcterms:modified>
  <cp:revision>9</cp:revision>
  <dc:subject/>
  <dc:title>Math activity: How much is your gold worth?</dc:title>
</cp:coreProperties>
</file>